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7A9-1D23-4AD1-8E04-F52FAFFF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30F-4048-40C9-876A-2FC7DA85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BE9-ABB8-427A-A414-EC0DF3AA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D89-F575-43BA-ABE7-A92454A8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83E6-FC5E-4912-BA66-F6FEEE2A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10B5-E5AB-4CC5-B079-E3605E23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9484-B46F-441B-8AE5-69224F34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0D55-5B39-45C2-8E72-1E780392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172E-7A45-4979-81D9-54FBD794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03A3-C8C0-46E6-818B-9A7328AA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4C91-36D7-443C-B7FB-4B7ACBE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0A7-E2CA-4339-B5F6-3092865C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761A-2EB6-49B8-8D73-C5C550E2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659B-4AFF-4800-8CB9-1B087045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BBFA-DB5C-4456-BBFA-C97B80E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3BA8-3611-4A81-B203-1FFE5713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F627-4AD8-4483-B535-789D8CFE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184-8782-4DB7-985C-18ACF5C8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997-67D4-4F06-9C15-9AA006D7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D2F-A329-420F-A8C0-B2BE412D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A37-47AB-4EEF-8384-93CB0484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6A5-FD45-4319-BDB7-AD0565EC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561-5619-4D9A-8C3B-6430DB79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794-1F25-4BB3-8FDB-A55D563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65F9-E702-4DE1-BBF1-A85092FB9D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F4C6-6800-427A-A7B8-D896EC4F2E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lfhtml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TM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 Sprache des W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as ist HTM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ie sieht ein Befehl/Tag au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Beispielta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Grundgerü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eiterentwicklu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Links bzw. Tutor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HTM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Eine Auszeichnungssprache mit der eine Webseite dargestellt wi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HTML bedeutet „Hyper Text MarkUp Language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HTML ist da um den Inhalt logische Strukturen zu verleihen, damit auch die Maschinen die Bedeutung erschließen kön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Kann man mit Notepad oder Editor mach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e sieht ein Befehl/Tag au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er Tag besteht aus zwei eckigen Klammern, z.B. &lt;html&gt; (binnen der Klammern ist der Ta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Jeder gestartete Tag muss  </a:t>
            </a: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meistens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auch einen schließenden Tag haben, z.B. &lt;/html&gt; (gekennzeichnet durch Schrägstri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ags wie &lt;br&gt; haben keinen geschlossenen Ta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ispielta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hx&gt; Steht für Überschrifte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p&gt; leitet einen Textabsatz e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b&gt;, &lt;i&gt;, &lt;u&gt; für fett, kursiv und unterstri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gerü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!DOCTYPE html PUBLIC "-//W3C//DTD XHTML 1.0 Transitional//EN"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"http://www.w3.org/TR/xhtml1/DTD/xhtml1-transitional.dtd"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html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body&gt;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ch kann es !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/body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/html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iterentwicklu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Styleshe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ynamisches 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Links/Tuto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elfhtml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planetHTML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3:02:34Z</dcterms:created>
  <dc:creator>EB</dc:creator>
  <dc:description/>
  <dc:language>en-US</dc:language>
  <cp:lastModifiedBy>EB</cp:lastModifiedBy>
  <dcterms:modified xsi:type="dcterms:W3CDTF">2006-02-13T16:28:02Z</dcterms:modified>
  <cp:revision>4</cp:revision>
  <dc:subject/>
  <dc:title>HTML</dc:title>
</cp:coreProperties>
</file>