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98D3-47BE-4005-A243-637B97223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B63D-C27C-4EF6-9038-EFF9A8729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5843-387D-46C9-9FED-A5B9C2978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0631-0692-476D-BA00-704D3A4C0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9409F-856F-449C-B8F6-AB04AFE67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B1765-0DAB-40CA-B288-67E1BE551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A1AC5-1660-4F6F-A57D-9910123C3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FE356-3790-4364-9F96-D61340CD1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9F80C-61BB-4F85-AE1A-B4CDE4462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7C837-8D9B-4267-9A6D-E5BE1BA01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36173-663F-477F-98BC-49005B236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2B2E-C0FC-4B55-A786-CBC7E0D43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81468-F2F5-4495-A71C-30784F675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8B609-1BF7-4D22-81B5-4FF3017E1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32852-D3C9-4AE6-BA74-41EDA853D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76323-26DB-4757-94FD-5208D16B4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1550C-BDE4-4350-AE99-F42BF6A0E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3B85-9C94-4BEE-939D-A0AD6F134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7920-B4BA-4391-904F-EE5F6035D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8BD8-AD3D-4B62-A635-2DC9F92B6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40A0-9413-4BDD-A896-036BA0195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A198-ADD5-49B3-B1EC-8269DC8CA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1716-6AB6-419C-98EC-2E6E23AC7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7285-16CE-4700-98FB-969E1FF0F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4ECCD-63F2-4350-B397-AC60BAE8EBC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EB2A7-BF0D-48B4-98F0-B7A4455F647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selfhtml.org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HTML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e Sprache des Web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haltsverzeichn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as ist HTML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ie sieht ein Befehl/Tag aus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undbefeh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undgerüs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as ist HTM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ine Skriptsprache mit der eine Webseite dargestellt wir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TML bedeutet „Hyper Text  MarkUp Language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TML besteht aus bestimmten Befehlen, die einen Text z.B. fett machen oder unterstreich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ann man mit Notepad oder Editor mach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388944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ie sieht ein Befehl/Tag aus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r Befehl besteht aus zwei eckigen Klammern, z.B. &lt;html&gt; (binnen der Klammern ist der Befehl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eder gestartete Befehl muss auch einen schließenden Befehl haben, z.B. &lt;/html&gt; (gekennzeichnet durch Schrägstrich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undbefeh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&lt;b&gt;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FETT schreibe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&lt;/b&gt;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&lt;i&gt;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KURSIV schreibe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&lt;/i&gt;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&lt;u&gt;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UNTERSTRICHEN schreibe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&lt;/u&gt;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&lt;br&gt; Erzeugt einen Zeilenumbruch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undgerüs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Verdana"/>
              </a:rPr>
              <a:t>&lt;html&gt;</a:t>
            </a:r>
            <a:br>
              <a:rPr sz="2800"/>
            </a:br>
            <a:r>
              <a:rPr b="0" lang="de-DE" sz="2800" spc="-1" strike="noStrike">
                <a:solidFill>
                  <a:srgbClr val="ffffff"/>
                </a:solidFill>
                <a:latin typeface="Verdana"/>
              </a:rPr>
              <a:t>&lt;body&gt;</a:t>
            </a:r>
            <a:br>
              <a:rPr sz="2800"/>
            </a:br>
            <a:br>
              <a:rPr sz="2800"/>
            </a:br>
            <a:r>
              <a:rPr b="0" lang="de-DE" sz="2800" spc="-1" strike="noStrike">
                <a:solidFill>
                  <a:srgbClr val="ffffff"/>
                </a:solidFill>
                <a:latin typeface="Verdana"/>
              </a:rPr>
              <a:t>Ich kann es !</a:t>
            </a:r>
            <a:br>
              <a:rPr sz="2800"/>
            </a:br>
            <a:br>
              <a:rPr sz="2800"/>
            </a:br>
            <a:r>
              <a:rPr b="0" lang="de-DE" sz="2800" spc="-1" strike="noStrike">
                <a:solidFill>
                  <a:srgbClr val="ffffff"/>
                </a:solidFill>
                <a:latin typeface="Verdana"/>
              </a:rPr>
              <a:t>&lt;/body&gt;</a:t>
            </a:r>
            <a:br>
              <a:rPr sz="2800"/>
            </a:br>
            <a:r>
              <a:rPr b="0" lang="de-DE" sz="2800" spc="-1" strike="noStrike">
                <a:solidFill>
                  <a:srgbClr val="ffffff"/>
                </a:solidFill>
                <a:latin typeface="Verdana"/>
              </a:rPr>
              <a:t>&lt;/html&gt;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ffffff"/>
                </a:solidFill>
                <a:latin typeface="Verdana"/>
              </a:rPr>
              <a:t>&lt;body&gt; steht für den „Körper“ des Textes und alles was innerhalb der Befehlen steht zeigt der Browser dar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eiterentwicklung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Styleshee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Dynamisches HTM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XM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ecff"/>
                </a:solidFill>
                <a:latin typeface="Arial"/>
              </a:rPr>
              <a:t>Links/Tutorial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www.selfhtml.or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ww.planetHTML.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8T13:02:34Z</dcterms:created>
  <dc:creator>EB</dc:creator>
  <dc:description/>
  <dc:language>en-US</dc:language>
  <cp:lastModifiedBy>EB</cp:lastModifiedBy>
  <dcterms:modified xsi:type="dcterms:W3CDTF">2006-02-08T15:14:09Z</dcterms:modified>
  <cp:revision>3</cp:revision>
  <dc:subject/>
  <dc:title>HTML</dc:title>
</cp:coreProperties>
</file>